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73D6-B9CA-4D11-8730-8C9EF0DC2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7C7F-A9CE-46F6-BFEC-B340E19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4D1166-D6D3-4563-B073-A4A973B1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D92A92-F223-46E8-B78C-F9749E15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89651D-1874-45EE-A0FC-14793997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1B0CA-1E24-4263-B8E0-1BE016E9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B898A8-4A6A-4E41-909B-8DF4C60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1E8AC-FE5B-4AE2-AF0A-F5FC428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E19A3B-63AB-45AB-8152-3AC2475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E7A45F-11A4-40FA-9461-48FD20FF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809EF7-F4FF-4708-B39E-4E0F97984E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D118-C188-455D-BB02-815565E00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0CB4-E8E7-4D82-9D88-037A1FF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73EE5-00D9-49E4-9FCD-89062AAB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20409-E2B7-47B9-9A19-12D047C5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A8B89-AE49-4B05-93B4-8322ABC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F4DB-9EBF-4323-B1D9-7DD841A3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547DA-F427-4B9E-8C11-7B77EAA9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483B0-3F26-42FC-BB0B-7F991D8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B6693-B9A4-452E-957F-0F726FD9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B70B4-16E3-4602-B2E8-D1E17B86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E3E3-7BD2-48B4-AD39-FFF3746C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D3B0-A7E7-4255-8609-A3710F0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EA7F-76E2-44E6-93D1-7A53628122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947D-2497-4D07-8DEF-83568717B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9AE56-3ECF-4A65-B70C-E4D7AD54B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6E63A6-F1C2-485C-8E5E-E576C19C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6AB72-DDE6-4F4A-B2C9-34C79626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653E4-9F75-43C2-94E3-B22A145F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78B02F-24FF-4126-9B03-2CAC3D1E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1DD53E-AE19-4004-B792-6469B22C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EF619-4BFD-4E0D-8B87-33D9C5F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F9317F-54D5-4BE6-9F8A-61D0AECD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54ACE7-F108-415F-B0C7-7E71D348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9F082-9851-41B2-8EF8-109301D3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84710B-C9A4-4A30-BD62-7708099B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772531-0068-4982-93FA-3383E57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15E9E1-DC41-44E7-AD06-D32A63F6F2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850A1-DBB6-4352-AD9F-ADAAE8583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79C37-F152-44FA-A919-C86B8A30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11023-5010-41DA-8F63-987528FF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5CA55-7D62-4000-843A-2F4D082E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48C21-4F0B-4AC9-9E8C-BDC9EA47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8A7D1-40DD-4C88-BCE4-097CBC9D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10789-EF5D-45BB-9C0A-0787BF0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D0F37-39A2-42D7-9FB0-6B10F141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E36B6-437B-49A7-8FE3-D847A801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A47D4-0A81-404F-B579-25A8F262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98E34-5598-4807-89D9-3F88A71A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54939-FFDF-44EF-A61C-C9EF6D4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CCA4B-B481-4F0C-84ED-ECD9AC703C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7004D-667A-43AE-A9C4-D88C501485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85257-AC23-4EDD-ADA9-3259669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8B6F-E506-42F2-8A2B-11962031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04EF0-5D8F-4E39-BBDD-FD436F38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97356-345D-4566-B5C8-F41227FB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48514-215F-482F-9111-18755AE3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2D66A-98A6-40D3-8360-F7B3ED64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AA30F-E280-40DA-AFA6-8EB92C0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FFF97-2FC5-4AE2-B6BA-36A13476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0A1B5-1CF7-484C-A4FC-35AF1E63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DE98A-E030-4FB4-8804-D1CD616F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EBE33-BB5C-4BA3-9725-57234B3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EC0EA-C620-42CC-9B09-24A5E294F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3358C-3E27-4870-B4B6-82A664D8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9C3ED-CF72-42E6-8F4E-E12CB62F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AE91F-5AE9-4109-ABEB-302E15C9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8133E-0E53-4842-B202-24135B75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E7AB3-1071-4816-9C74-50D1A6F0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EB235-C831-43CD-AF32-3542C5BA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F0FE5-CF39-43A0-9245-CE5558CD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C4DDA-92B9-4F83-8089-369D0880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80558-EFB6-459E-B674-71D379C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EF775-71EB-4CD4-B817-B3306CE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0DB8E-9402-4469-B4CD-8B87F34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8C23F-5A7E-49CA-96B4-FC081E78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ED7CB-9735-41FD-BD59-02095184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8E64A-298E-47EB-AFDA-94B8FA6D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D47A8-4EE3-4384-9CCF-68B03535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01C65-9F39-4AC6-B6E7-4EB3B814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1582C-EEAA-4299-8E02-EC839B3B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555A9-2FAB-42F9-8DCC-1CB8857B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D3C62-6DF0-4459-BB3F-FB55D43D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53081-EA09-4A19-9670-BC391794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510C0-9AEB-484A-A0D7-21EB5CD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2733D-13FA-4392-917E-D001894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30946-A9CC-49F9-8ECC-9E8F4F1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43E0-67DE-4E1F-9484-EB0AC22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6CF1B-47A7-47B3-BE4C-BAA1E583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2DC13-101C-46E1-A56D-BD7588B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31FE1-3B17-4BAF-98F1-771694F7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35F32-992C-42FD-BD8F-534AC2AE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5CF3F-45FB-44BC-9E19-35E8F748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1964A-4E04-4419-828C-7AC5EAC0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34049-1EE8-46EA-B70A-389A4E9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9F5AF-592C-41AF-B8C0-FC69FFE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ACF07-1F26-49C2-8221-D69E73C8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13451-AE23-4183-8633-DA708A4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F3A88-AEF7-4B73-A664-01677882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8356D-7BA5-46E7-9401-E63EAFE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AC1E-550E-446C-A95A-7B0C4800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2273C-E918-4EF7-8F73-BA9BBCF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E9C9E-2265-4075-B28F-7421E02E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F4593-C193-4CB5-93D8-DEF2101E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2A701-70EE-4B22-AE20-EEA29B0F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34492-52A7-4C71-8413-42AEA709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A4579-9747-4098-8B7F-6EAED4A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1E02C-0348-47E5-B7B5-4C9EEC38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3CA94-DFBD-44A7-969D-9E88184D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10948-10A3-4387-B098-F098761D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CA3C7-E36D-43E8-A3C9-A1E9B28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D50C-8C3D-4F1A-834B-5FC47C45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FBB0A-C3A5-4337-98F6-9D14988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21187-F2EB-47B3-BBD4-99FD4D4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0A69E-38DE-43BB-828D-BA16D95B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4088A-8779-41AB-977C-35978E06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B3D90-FEE4-4E56-8924-1FF1FA65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05277-6C8E-4398-BC14-B0656E33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99260-5117-41CC-9415-4EC1C96E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0AFDF-1F23-416B-8EE2-1E3E388D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03A3C-E16F-4956-9C51-C83787AA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0FE87-5DB6-459C-BC34-1BA97F9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A4518-C264-479C-90C3-7C4AEA8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29C27-4E1F-4071-8565-BB51D6E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28A56-9233-4BDF-B057-5907310F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9F598-81E3-4279-A0E1-0B071E3D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D7054-4EDF-4F2B-95AE-FBEB691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55A3E-A687-4D0F-9AA2-4E06EC0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25A6E-0CB2-44D4-9923-EC5FD318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8F26F-995F-4D7C-BB2C-E01F34D6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3912A-DF4A-4BD2-B858-06F3754A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7A589-8F43-410A-9DC1-140D239F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A9AD8-349B-4B4F-93E6-8CB0CFC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639C2-8EE7-446C-AA9A-DF17187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3117B-9D4E-44A0-BAFB-0A338686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092DC-DB52-483E-A3F3-64FDE3D5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0B8E3-43EF-4B04-90AD-92C36175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AEE63-26DD-4C75-B17A-D18541F4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615F5-C89C-4C1B-B97B-6CF9D75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CA782-7486-40F7-B6E6-BB8517A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F0E0B-B7A2-46D5-8A32-60CB4EF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50BDD-79DC-4108-A4B5-D35C43A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570B0-74BB-4192-BFDD-800BFF28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11873-55E1-4F6E-8572-FE2BE56A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515ED-7F53-48BC-83DC-CBBC354C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4AEB-0A64-47CB-94F7-3CEB411B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2BBF2-9886-4AF2-96D1-FC671EFE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06C54-2B12-4A8D-837E-1703F1A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B0D42-4A71-4857-BEEC-4F9740A4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ACFCC-4856-4C72-899C-AF0AE4DD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0AA0E-6159-4356-839F-58B0FC4B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A8E2A-6B11-4762-B51A-1CD6963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C8079-3A21-4F78-B71B-09EBC81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6D4C0-75D5-426A-A2AF-CCA26359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24570-56D0-4A7A-86FF-8F6E37E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9E11D-FB63-435F-8FC8-E72181CE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82DC3-C792-4136-A392-377CE473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70AC4-8F5D-488B-BCF9-802CEDD2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518DC-9E4B-4349-A955-49730C9C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31823-B8AD-4B54-B666-B1BD7E9C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F2773-2359-4149-89CD-361BE4A4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6483E-76D4-434F-A7E7-DAC4AC49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9339C-8BD2-45D5-AC38-F06435D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A7576-3ED9-4119-AD85-E8C2B18B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E8772-20B3-4041-8E39-372873E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43C12-D5EA-4524-B2AD-76A7F4E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454BC-ABA1-4AA5-98A6-731E0BD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833D1-C8A2-4FE2-A93F-A7DD2C768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DDBB1-760C-4090-915C-1DBEED79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ED991-27A3-45FE-9BFA-4C4CC7EF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38A7C-1CE2-41EC-B534-E5E2EF49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BA30D-D674-4D71-A0F3-525EAA3F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3F26C-E2C2-491C-B18C-0B73329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91CCA-6567-4122-A42C-0BD51BBC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0A44C-479C-4BDA-8B0E-1724FC05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44FB6-2BDA-4765-945C-5DD0478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547F1-C074-4071-8E0F-8BD8553A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E1328-505C-491A-900A-E9CA32D3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BDF3A-0D9C-40E9-AB20-4794C76D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342B3-6453-46E3-8D0A-8855F67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7F02B4-C6F2-48C3-852A-1430F05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C407C-EAE9-4EBF-8AF1-B35B3691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DCB434-A03B-457B-BEBA-21006B96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3F747-1855-4F13-9987-4253577A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624C0-96B8-495C-82A4-B14EBC70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C1A2C-7D56-4BE2-AE0A-8146B909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EA95A-D3ED-4E6A-B657-8C12F960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224AD-B935-4ECA-A579-1C52A7CE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985DA-47AF-43F5-9442-A0417881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3083B-C740-4D0C-8B06-5FD45349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C4BA5-3310-4EDC-A5E5-DDD9266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A2F25-EFEE-41AC-AFF4-742F12E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DB4AE-7D56-46B1-8299-2113F05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0036F-F1D7-46E6-894D-1F0A8CB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DBBB5-7EBC-4B32-929D-9B13BDD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7F63B-0965-412D-9BDD-665F7190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6A4EC8-A17A-4F33-BD8C-8B51391C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1E0D2-94BA-49ED-B1A5-EE3D1A86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3700E-1A49-4020-A6AA-C498F50A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9A130-114C-415B-96B5-8FCE879E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13E37-9C6A-4E8E-B5ED-840C6E30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FC1BA-C9F1-46E2-8382-61DBA328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E3969-5FCC-471F-81C3-5EF02CCB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F30B3-3623-4AC8-8884-06764D90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9394D-BE22-495E-96D6-5D33CC3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D1870-1364-4EB5-896F-79EC5E9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CB124-4DD9-41B9-9BC2-65B2C8E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8A16B-84CA-4A7E-8560-9B300F2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D7256-4682-451F-AE2D-AA0A8CC6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1A0EF-1858-4762-BB69-87E30BBF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D91015-D026-4812-8B5B-05B109D6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191E-7E6E-451A-B985-293C989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64768-6535-4AB4-88CF-54A8A9D1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8D65DF-5DCB-4876-878E-98E3208C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8D6B3-CD55-41AE-8AE5-B4EAD5BD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9C13B-690E-4264-9280-E31D501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1385D-225A-4042-B8ED-A7F35AC2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62837-C2E9-46A9-892E-659BA633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D2CB3-5D2B-429C-A932-C457BBE9C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AAAB-36AA-4AB1-A11D-FF947ECE7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775D-AF77-403D-B4EE-7E604B7E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709C-8135-4571-AA01-D81C22E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2226-6DDD-4F68-8E91-2DE75B87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F297-70CB-4ADA-ACCE-CC11D4D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9195-C384-4338-8490-80FAACE0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5B2F-CDE8-46A0-852E-1EFAC3BD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F633-53DE-4A35-A6DB-846FCF3D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93D4-3B38-44ED-8593-4B06A3FA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9B8A-D06C-4940-8E4A-38A2D537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784C-FE71-48E2-A655-B21964CF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CCE9-969E-442B-9F96-8BFFF6B3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11BE-6BED-4DD7-9CFF-038119A7C8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F0C75-A9B9-486C-B60D-0FB75F729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4612-903D-499B-94B5-51E0D3D6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B77E1-BFDF-4D2A-8076-220BD05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46BF8-6309-4522-8161-E96792E8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5EC28-BE60-489A-8DFF-8CE49730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FCC2A-4951-43F7-A172-5EDF1DE2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61AFA-AC12-4C77-BEC1-2772399E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DF474-0C7D-4AF1-8D74-0488348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37D9C-3382-4C34-9AB1-F039BE8B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11337-5B8C-441F-B2C1-560CB32B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64381-68D0-4962-9D9A-1F56EB88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77254-F3EC-4F44-BE2E-7A73F35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4967-45A0-4911-85B7-B4C04EE9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71D24-7783-4755-A5C3-BD13CFEAF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04F6E-23C6-479B-ACEB-F9208111C4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83EE2D-7768-4690-8C35-A1DB51EA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06F71-3A52-4173-BEB2-2B66202F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3BB16-BB5E-484D-BDFA-689D968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B2402B-CF91-4372-8C0A-97462DF5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79D367-97E9-4943-B042-EE82B26A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0C52B1-F883-48E0-A02F-09D1DF0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90E2CF-8556-42C9-9D63-59C2960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CBABE-5C89-46D8-8644-D675D89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8FB4-B2EA-49B2-86B2-EF31B3D7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7588F1-5B25-45F8-8489-2CC24C27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A3B9F-BBDA-4F6C-98DE-5AD7E6E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152A15-45AD-42C6-8C84-F09158E08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F8AA-7A48-4A9D-BD51-E25EC7D39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B9860-F489-420F-9CD6-411BC5A3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EC21-7CDB-4554-89AF-29EC52E3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02C8-594E-42C4-88ED-12277F8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188F-397D-45C3-AF2D-936004E0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6D7FC-AC5B-4B5D-999F-0BF69F74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868D5-5AA9-4BC7-A4AB-A98D55A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8F35-513E-42F2-A47A-3E4DA15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750F-A3AF-4D5F-8F8C-D65404FA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590F9-AC5A-47B4-88BB-599C5485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DE40-B670-4D6F-BAEE-9688D1BA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549CF-00B8-435C-98DF-8A7A295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51ED-D08C-4D49-97F4-CBAB3414F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AF168-46AB-4EB4-AA30-D3CD02912E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93EC7-1828-4EBA-BE98-3D2645FE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0AE79-0322-4409-860E-0A9B5797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95E8D-8C5A-4357-9B28-9C1A72B3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54621-B8D3-4CF0-982C-6FA0868E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C3A0-9899-468B-B63E-6DA5C3E6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8CB69-178A-4F01-9CA7-3F509759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7FDC2-3E0C-4227-9FB2-CEF24E6C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C90F9-592F-4867-8991-24A2CB08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717DF-2710-475F-8043-2899A793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A7AC3-55B2-4713-B208-374B7EE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521E9-CD6D-40A8-8C06-0D5E461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0B551-8B01-4A04-B8AF-AA3BD4A7F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7AFBE9-740A-45DB-9419-F12764F83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848BC9-22EE-4F90-BD65-9474484B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D7B54-406E-4EC6-9D4B-F88BA7E1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668-70E3-41F1-92F8-3941647F57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067-E520-4A25-B6B6-950FF8DD3D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BCF0-0FA9-420D-8AAA-3ECFE374B4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24B-03EE-4E4F-8DB5-CAEA9305C12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D1E6-2943-412C-8556-B0917AA596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C3BB-5285-4AA4-BDE0-F06B32E751D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335-759C-4112-883A-FF81A121C8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3E5-6ABD-4A30-A37B-B1BF2811E3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405-66C1-40E3-8589-8B4E854449C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A0DE-A85F-4144-8F3D-E32758B525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D50E-7067-4E2A-818A-7B991AAD3C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C5AB-1DA7-49E8-8CEE-D3BB72F096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A234-BB43-46FD-B0A7-B2B2F1C837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877D-34C8-453F-A1BD-3ED4C4E7EBA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3DB-8EB2-4127-9E29-D549B98CF5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3D99-1E2B-421A-90C3-AA9AC56746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8F5-F58A-4AC7-A62F-EE3561F535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2A08-01B5-4297-83E0-51AFDB8703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17E7-7529-4AF3-AD5E-21AF94C2B5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1C39-5D20-48B3-B854-0865879E70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6F4-CB1A-40F1-BF0C-643EBF2003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85F-9648-4772-AF54-A80A2276CA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D5CB-D0AC-42A5-A8F5-0F8E734757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2530-2131-4582-94CD-83EECD0127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2"/>
          <p:cNvSpPr/>
          <p:nvPr/>
        </p:nvSpPr>
        <p:spPr>
          <a:xfrm>
            <a:off x="396720" y="8096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组合 49"/>
          <p:cNvGrpSpPr/>
          <p:nvPr/>
        </p:nvGrpSpPr>
        <p:grpSpPr>
          <a:xfrm>
            <a:off x="576360" y="1346040"/>
            <a:ext cx="8156520" cy="2596680"/>
            <a:chOff x="576360" y="1346040"/>
            <a:chExt cx="8156520" cy="2596680"/>
          </a:xfrm>
        </p:grpSpPr>
        <p:sp>
          <p:nvSpPr>
            <p:cNvPr id="1000" name="文本框 6"/>
            <p:cNvSpPr/>
            <p:nvPr/>
          </p:nvSpPr>
          <p:spPr>
            <a:xfrm>
              <a:off x="576360" y="13460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-2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文本框 7"/>
            <p:cNvSpPr/>
            <p:nvPr/>
          </p:nvSpPr>
          <p:spPr>
            <a:xfrm>
              <a:off x="2664360" y="13464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+1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文本框 8"/>
            <p:cNvSpPr/>
            <p:nvPr/>
          </p:nvSpPr>
          <p:spPr>
            <a:xfrm>
              <a:off x="4753080" y="134712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+1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文本框 9"/>
            <p:cNvSpPr/>
            <p:nvPr/>
          </p:nvSpPr>
          <p:spPr>
            <a:xfrm>
              <a:off x="6841440" y="13478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-24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10"/>
            <p:cNvSpPr/>
            <p:nvPr/>
          </p:nvSpPr>
          <p:spPr>
            <a:xfrm>
              <a:off x="576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8-47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2"/>
            <p:cNvSpPr/>
            <p:nvPr/>
          </p:nvSpPr>
          <p:spPr>
            <a:xfrm>
              <a:off x="2664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+3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14"/>
            <p:cNvSpPr/>
            <p:nvPr/>
          </p:nvSpPr>
          <p:spPr>
            <a:xfrm>
              <a:off x="475308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8-1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15"/>
            <p:cNvSpPr/>
            <p:nvPr/>
          </p:nvSpPr>
          <p:spPr>
            <a:xfrm>
              <a:off x="684144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3+34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组合 3"/>
          <p:cNvGrpSpPr/>
          <p:nvPr/>
        </p:nvGrpSpPr>
        <p:grpSpPr>
          <a:xfrm>
            <a:off x="620640" y="1835280"/>
            <a:ext cx="919080" cy="1191240"/>
            <a:chOff x="620640" y="1835280"/>
            <a:chExt cx="919080" cy="1191240"/>
          </a:xfrm>
        </p:grpSpPr>
        <p:sp>
          <p:nvSpPr>
            <p:cNvPr id="1009" name="文本框 16"/>
            <p:cNvSpPr/>
            <p:nvPr/>
          </p:nvSpPr>
          <p:spPr>
            <a:xfrm>
              <a:off x="62064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2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直接连接符 5"/>
            <p:cNvSpPr/>
            <p:nvPr/>
          </p:nvSpPr>
          <p:spPr>
            <a:xfrm>
              <a:off x="700560" y="256392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"/>
          <p:cNvGrpSpPr/>
          <p:nvPr/>
        </p:nvGrpSpPr>
        <p:grpSpPr>
          <a:xfrm>
            <a:off x="2735280" y="1835280"/>
            <a:ext cx="919080" cy="1191240"/>
            <a:chOff x="2735280" y="1835280"/>
            <a:chExt cx="919080" cy="1191240"/>
          </a:xfrm>
        </p:grpSpPr>
        <p:sp>
          <p:nvSpPr>
            <p:cNvPr id="1012" name="文本框 20"/>
            <p:cNvSpPr/>
            <p:nvPr/>
          </p:nvSpPr>
          <p:spPr>
            <a:xfrm>
              <a:off x="273528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1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8"/>
            <p:cNvSpPr/>
            <p:nvPr/>
          </p:nvSpPr>
          <p:spPr>
            <a:xfrm>
              <a:off x="2815200" y="256392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9"/>
          <p:cNvGrpSpPr/>
          <p:nvPr/>
        </p:nvGrpSpPr>
        <p:grpSpPr>
          <a:xfrm>
            <a:off x="4848120" y="1835280"/>
            <a:ext cx="919440" cy="1191240"/>
            <a:chOff x="4848120" y="1835280"/>
            <a:chExt cx="919440" cy="1191240"/>
          </a:xfrm>
        </p:grpSpPr>
        <p:sp>
          <p:nvSpPr>
            <p:cNvPr id="1015" name="文本框 23"/>
            <p:cNvSpPr/>
            <p:nvPr/>
          </p:nvSpPr>
          <p:spPr>
            <a:xfrm>
              <a:off x="4848120" y="183528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1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直接连接符 12"/>
            <p:cNvSpPr/>
            <p:nvPr/>
          </p:nvSpPr>
          <p:spPr>
            <a:xfrm>
              <a:off x="4928040" y="256392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14"/>
          <p:cNvGrpSpPr/>
          <p:nvPr/>
        </p:nvGrpSpPr>
        <p:grpSpPr>
          <a:xfrm>
            <a:off x="6962760" y="1835280"/>
            <a:ext cx="919080" cy="1191240"/>
            <a:chOff x="6962760" y="1835280"/>
            <a:chExt cx="919080" cy="1191240"/>
          </a:xfrm>
        </p:grpSpPr>
        <p:sp>
          <p:nvSpPr>
            <p:cNvPr id="1018" name="文本框 26"/>
            <p:cNvSpPr/>
            <p:nvPr/>
          </p:nvSpPr>
          <p:spPr>
            <a:xfrm>
              <a:off x="696276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2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直接连接符 16"/>
            <p:cNvSpPr/>
            <p:nvPr/>
          </p:nvSpPr>
          <p:spPr>
            <a:xfrm>
              <a:off x="7042680" y="256392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20"/>
          <p:cNvGrpSpPr/>
          <p:nvPr/>
        </p:nvGrpSpPr>
        <p:grpSpPr>
          <a:xfrm>
            <a:off x="612720" y="4089240"/>
            <a:ext cx="919080" cy="1191240"/>
            <a:chOff x="612720" y="4089240"/>
            <a:chExt cx="919080" cy="1191240"/>
          </a:xfrm>
        </p:grpSpPr>
        <p:sp>
          <p:nvSpPr>
            <p:cNvPr id="1021" name="文本框 35"/>
            <p:cNvSpPr/>
            <p:nvPr/>
          </p:nvSpPr>
          <p:spPr>
            <a:xfrm>
              <a:off x="612720" y="408924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4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接连接符 26"/>
            <p:cNvSpPr/>
            <p:nvPr/>
          </p:nvSpPr>
          <p:spPr>
            <a:xfrm>
              <a:off x="692640" y="48189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35"/>
          <p:cNvGrpSpPr/>
          <p:nvPr/>
        </p:nvGrpSpPr>
        <p:grpSpPr>
          <a:xfrm>
            <a:off x="2735280" y="4098960"/>
            <a:ext cx="919080" cy="1191240"/>
            <a:chOff x="2735280" y="4098960"/>
            <a:chExt cx="919080" cy="1191240"/>
          </a:xfrm>
        </p:grpSpPr>
        <p:sp>
          <p:nvSpPr>
            <p:cNvPr id="1024" name="文本框 41"/>
            <p:cNvSpPr/>
            <p:nvPr/>
          </p:nvSpPr>
          <p:spPr>
            <a:xfrm>
              <a:off x="273528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3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38"/>
            <p:cNvSpPr/>
            <p:nvPr/>
          </p:nvSpPr>
          <p:spPr>
            <a:xfrm>
              <a:off x="2815200" y="48276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39"/>
          <p:cNvGrpSpPr/>
          <p:nvPr/>
        </p:nvGrpSpPr>
        <p:grpSpPr>
          <a:xfrm>
            <a:off x="4848120" y="4098960"/>
            <a:ext cx="919440" cy="1191240"/>
            <a:chOff x="4848120" y="4098960"/>
            <a:chExt cx="919440" cy="1191240"/>
          </a:xfrm>
        </p:grpSpPr>
        <p:sp>
          <p:nvSpPr>
            <p:cNvPr id="1027" name="文本框 44"/>
            <p:cNvSpPr/>
            <p:nvPr/>
          </p:nvSpPr>
          <p:spPr>
            <a:xfrm>
              <a:off x="4848120" y="409896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1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44"/>
            <p:cNvSpPr/>
            <p:nvPr/>
          </p:nvSpPr>
          <p:spPr>
            <a:xfrm>
              <a:off x="4928040" y="48276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组合 47"/>
          <p:cNvGrpSpPr/>
          <p:nvPr/>
        </p:nvGrpSpPr>
        <p:grpSpPr>
          <a:xfrm>
            <a:off x="6962760" y="4098960"/>
            <a:ext cx="919080" cy="1191240"/>
            <a:chOff x="6962760" y="4098960"/>
            <a:chExt cx="919080" cy="1191240"/>
          </a:xfrm>
        </p:grpSpPr>
        <p:sp>
          <p:nvSpPr>
            <p:cNvPr id="1030" name="文本框 47"/>
            <p:cNvSpPr/>
            <p:nvPr/>
          </p:nvSpPr>
          <p:spPr>
            <a:xfrm>
              <a:off x="696276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3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58"/>
            <p:cNvSpPr/>
            <p:nvPr/>
          </p:nvSpPr>
          <p:spPr>
            <a:xfrm>
              <a:off x="7042680" y="48276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文本框 59"/>
          <p:cNvSpPr/>
          <p:nvPr/>
        </p:nvSpPr>
        <p:spPr>
          <a:xfrm>
            <a:off x="1619280" y="13366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60"/>
          <p:cNvSpPr/>
          <p:nvPr/>
        </p:nvSpPr>
        <p:spPr>
          <a:xfrm>
            <a:off x="3762360" y="1343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61"/>
          <p:cNvSpPr/>
          <p:nvPr/>
        </p:nvSpPr>
        <p:spPr>
          <a:xfrm>
            <a:off x="5842080" y="1341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文本框 62"/>
          <p:cNvSpPr/>
          <p:nvPr/>
        </p:nvSpPr>
        <p:spPr>
          <a:xfrm>
            <a:off x="7869240" y="13399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63"/>
          <p:cNvSpPr/>
          <p:nvPr/>
        </p:nvSpPr>
        <p:spPr>
          <a:xfrm>
            <a:off x="1585800" y="3483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64"/>
          <p:cNvSpPr/>
          <p:nvPr/>
        </p:nvSpPr>
        <p:spPr>
          <a:xfrm>
            <a:off x="3760920" y="3478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65"/>
          <p:cNvSpPr/>
          <p:nvPr/>
        </p:nvSpPr>
        <p:spPr>
          <a:xfrm>
            <a:off x="5772240" y="34765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66"/>
          <p:cNvSpPr/>
          <p:nvPr/>
        </p:nvSpPr>
        <p:spPr>
          <a:xfrm>
            <a:off x="793116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2"/>
          <p:cNvSpPr/>
          <p:nvPr/>
        </p:nvSpPr>
        <p:spPr>
          <a:xfrm>
            <a:off x="479520" y="77796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猜猜我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28"/>
          <p:cNvGrpSpPr/>
          <p:nvPr/>
        </p:nvGrpSpPr>
        <p:grpSpPr>
          <a:xfrm>
            <a:off x="538200" y="1811160"/>
            <a:ext cx="7840440" cy="2038320"/>
            <a:chOff x="538200" y="1811160"/>
            <a:chExt cx="7840440" cy="2038320"/>
          </a:xfrm>
        </p:grpSpPr>
        <p:grpSp>
          <p:nvGrpSpPr>
            <p:cNvPr id="1042" name="组合 5"/>
            <p:cNvGrpSpPr/>
            <p:nvPr/>
          </p:nvGrpSpPr>
          <p:grpSpPr>
            <a:xfrm>
              <a:off x="539280" y="1811160"/>
              <a:ext cx="1275480" cy="2038320"/>
              <a:chOff x="539280" y="1811160"/>
              <a:chExt cx="1275480" cy="2038320"/>
            </a:xfrm>
          </p:grpSpPr>
          <p:sp>
            <p:nvSpPr>
              <p:cNvPr id="1043" name="矩形 3"/>
              <p:cNvSpPr/>
              <p:nvPr/>
            </p:nvSpPr>
            <p:spPr>
              <a:xfrm>
                <a:off x="539280" y="2369520"/>
                <a:ext cx="1275480" cy="1479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9a3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矩形 4"/>
              <p:cNvSpPr/>
              <p:nvPr/>
            </p:nvSpPr>
            <p:spPr>
              <a:xfrm>
                <a:off x="585720" y="2399400"/>
                <a:ext cx="1189800" cy="1422000"/>
              </a:xfrm>
              <a:prstGeom prst="rect">
                <a:avLst/>
              </a:prstGeom>
              <a:noFill/>
              <a:ln w="12600">
                <a:solidFill>
                  <a:srgbClr val="fab6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5" name="Picture 10" descr="201565-120gz0464299[1]"/>
              <p:cNvPicPr/>
              <p:nvPr/>
            </p:nvPicPr>
            <p:blipFill>
              <a:blip r:embed="rId2"/>
              <a:stretch/>
            </p:blipFill>
            <p:spPr>
              <a:xfrm>
                <a:off x="640440" y="1811160"/>
                <a:ext cx="964800" cy="65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6" name="组合 6"/>
            <p:cNvGrpSpPr/>
            <p:nvPr/>
          </p:nvGrpSpPr>
          <p:grpSpPr>
            <a:xfrm>
              <a:off x="2724120" y="1811160"/>
              <a:ext cx="1275480" cy="2038320"/>
              <a:chOff x="2724120" y="1811160"/>
              <a:chExt cx="1275480" cy="2038320"/>
            </a:xfrm>
          </p:grpSpPr>
          <p:sp>
            <p:nvSpPr>
              <p:cNvPr id="1047" name="矩形 7"/>
              <p:cNvSpPr/>
              <p:nvPr/>
            </p:nvSpPr>
            <p:spPr>
              <a:xfrm>
                <a:off x="2724120" y="2368800"/>
                <a:ext cx="1275480" cy="14806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f9a3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矩形 8"/>
              <p:cNvSpPr/>
              <p:nvPr/>
            </p:nvSpPr>
            <p:spPr>
              <a:xfrm>
                <a:off x="2770560" y="2398680"/>
                <a:ext cx="1189800" cy="1422720"/>
              </a:xfrm>
              <a:prstGeom prst="rect">
                <a:avLst/>
              </a:prstGeom>
              <a:noFill/>
              <a:ln w="12600">
                <a:solidFill>
                  <a:srgbClr val="fab6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Picture 10" descr="201565-120gz0464299[1]"/>
              <p:cNvPicPr/>
              <p:nvPr/>
            </p:nvPicPr>
            <p:blipFill>
              <a:blip r:embed="rId4"/>
              <a:stretch/>
            </p:blipFill>
            <p:spPr>
              <a:xfrm>
                <a:off x="2825280" y="1811160"/>
                <a:ext cx="964800" cy="65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0" name="组合 10"/>
            <p:cNvGrpSpPr/>
            <p:nvPr/>
          </p:nvGrpSpPr>
          <p:grpSpPr>
            <a:xfrm>
              <a:off x="4907880" y="1811160"/>
              <a:ext cx="1275480" cy="2038320"/>
              <a:chOff x="4907880" y="1811160"/>
              <a:chExt cx="1275480" cy="2038320"/>
            </a:xfrm>
          </p:grpSpPr>
          <p:sp>
            <p:nvSpPr>
              <p:cNvPr id="1051" name="矩形 12"/>
              <p:cNvSpPr/>
              <p:nvPr/>
            </p:nvSpPr>
            <p:spPr>
              <a:xfrm>
                <a:off x="4907880" y="2368800"/>
                <a:ext cx="1275480" cy="1480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f9a3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矩形 14"/>
              <p:cNvSpPr/>
              <p:nvPr/>
            </p:nvSpPr>
            <p:spPr>
              <a:xfrm>
                <a:off x="4954320" y="2398680"/>
                <a:ext cx="1189800" cy="1422720"/>
              </a:xfrm>
              <a:prstGeom prst="rect">
                <a:avLst/>
              </a:prstGeom>
              <a:noFill/>
              <a:ln w="12600">
                <a:solidFill>
                  <a:srgbClr val="fab6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10" descr="201565-120gz0464299[1]"/>
              <p:cNvPicPr/>
              <p:nvPr/>
            </p:nvPicPr>
            <p:blipFill>
              <a:blip r:embed="rId6"/>
              <a:stretch/>
            </p:blipFill>
            <p:spPr>
              <a:xfrm>
                <a:off x="5009040" y="1811160"/>
                <a:ext cx="964800" cy="65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组合 16"/>
            <p:cNvGrpSpPr/>
            <p:nvPr/>
          </p:nvGrpSpPr>
          <p:grpSpPr>
            <a:xfrm>
              <a:off x="7092000" y="1811160"/>
              <a:ext cx="1275480" cy="2038320"/>
              <a:chOff x="7092000" y="1811160"/>
              <a:chExt cx="1275480" cy="2038320"/>
            </a:xfrm>
          </p:grpSpPr>
          <p:sp>
            <p:nvSpPr>
              <p:cNvPr id="1055" name="矩形 17"/>
              <p:cNvSpPr/>
              <p:nvPr/>
            </p:nvSpPr>
            <p:spPr>
              <a:xfrm>
                <a:off x="7092000" y="2368800"/>
                <a:ext cx="1275480" cy="1480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f9a3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矩形 18"/>
              <p:cNvSpPr/>
              <p:nvPr/>
            </p:nvSpPr>
            <p:spPr>
              <a:xfrm>
                <a:off x="7138440" y="2398680"/>
                <a:ext cx="1189800" cy="1422720"/>
              </a:xfrm>
              <a:prstGeom prst="rect">
                <a:avLst/>
              </a:prstGeom>
              <a:noFill/>
              <a:ln w="12600">
                <a:solidFill>
                  <a:srgbClr val="fab6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Picture 10" descr="201565-120gz0464299[1]"/>
              <p:cNvPicPr/>
              <p:nvPr/>
            </p:nvPicPr>
            <p:blipFill>
              <a:blip r:embed="rId8"/>
              <a:stretch/>
            </p:blipFill>
            <p:spPr>
              <a:xfrm>
                <a:off x="7193160" y="1811160"/>
                <a:ext cx="964800" cy="65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8" name="文本框 20"/>
            <p:cNvSpPr/>
            <p:nvPr/>
          </p:nvSpPr>
          <p:spPr>
            <a:xfrm>
              <a:off x="595800" y="2485080"/>
              <a:ext cx="116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比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8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大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21"/>
            <p:cNvSpPr/>
            <p:nvPr/>
          </p:nvSpPr>
          <p:spPr>
            <a:xfrm>
              <a:off x="2774520" y="2485080"/>
              <a:ext cx="116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比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2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小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文本框 22"/>
            <p:cNvSpPr/>
            <p:nvPr/>
          </p:nvSpPr>
          <p:spPr>
            <a:xfrm>
              <a:off x="4953600" y="2485080"/>
              <a:ext cx="116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加上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8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文本框 23"/>
            <p:cNvSpPr/>
            <p:nvPr/>
          </p:nvSpPr>
          <p:spPr>
            <a:xfrm>
              <a:off x="7132320" y="2485080"/>
              <a:ext cx="116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93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减去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7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文本框 24"/>
            <p:cNvSpPr/>
            <p:nvPr/>
          </p:nvSpPr>
          <p:spPr>
            <a:xfrm>
              <a:off x="538200" y="3384000"/>
              <a:ext cx="12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文本框 25"/>
            <p:cNvSpPr/>
            <p:nvPr/>
          </p:nvSpPr>
          <p:spPr>
            <a:xfrm>
              <a:off x="2721960" y="3384000"/>
              <a:ext cx="12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文本框 26"/>
            <p:cNvSpPr/>
            <p:nvPr/>
          </p:nvSpPr>
          <p:spPr>
            <a:xfrm>
              <a:off x="4906080" y="338400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文本框 27"/>
            <p:cNvSpPr/>
            <p:nvPr/>
          </p:nvSpPr>
          <p:spPr>
            <a:xfrm>
              <a:off x="7089840" y="338400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文本框 35"/>
          <p:cNvSpPr/>
          <p:nvPr/>
        </p:nvSpPr>
        <p:spPr>
          <a:xfrm>
            <a:off x="917640" y="3382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36"/>
          <p:cNvSpPr/>
          <p:nvPr/>
        </p:nvSpPr>
        <p:spPr>
          <a:xfrm>
            <a:off x="3098880" y="3384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37"/>
          <p:cNvSpPr/>
          <p:nvPr/>
        </p:nvSpPr>
        <p:spPr>
          <a:xfrm>
            <a:off x="5307120" y="3375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38"/>
          <p:cNvSpPr/>
          <p:nvPr/>
        </p:nvSpPr>
        <p:spPr>
          <a:xfrm>
            <a:off x="7499520" y="3375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2"/>
          <p:cNvSpPr/>
          <p:nvPr/>
        </p:nvSpPr>
        <p:spPr>
          <a:xfrm>
            <a:off x="522360" y="876240"/>
            <a:ext cx="83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明摘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黄瓜，小丽比小明多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。小丽摘了多少根黄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海世博会上，中国国家馆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比日本馆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。日本馆高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3"/>
          <p:cNvSpPr/>
          <p:nvPr/>
        </p:nvSpPr>
        <p:spPr>
          <a:xfrm>
            <a:off x="1108080" y="1866960"/>
            <a:ext cx="65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2+24=5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小丽摘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根黄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4"/>
          <p:cNvSpPr/>
          <p:nvPr/>
        </p:nvSpPr>
        <p:spPr>
          <a:xfrm>
            <a:off x="1098720" y="4132440"/>
            <a:ext cx="65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9-45=2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日本馆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文本框 2"/>
          <p:cNvSpPr/>
          <p:nvPr/>
        </p:nvSpPr>
        <p:spPr>
          <a:xfrm>
            <a:off x="422280" y="81612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明的爸爸今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，明明比爸爸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。今年明明多少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3"/>
          <p:cNvSpPr/>
          <p:nvPr/>
        </p:nvSpPr>
        <p:spPr>
          <a:xfrm>
            <a:off x="593640" y="1766880"/>
            <a:ext cx="81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2-26=1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今年明明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30Z</dcterms:modified>
  <cp:revision>1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